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1D88-B28F-4A59-96E9-6D17A3BFBF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9920-F2B9-492D-9F44-C74C38F711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DD07-80AE-4290-90E5-6DDAB1C598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8D56-A29F-4A3F-8125-D0B5646707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D43E-55D2-403F-98CB-0864F2F422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662D-92FC-4685-8426-C7439AE6F1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58F-A0AD-42D2-BEC7-71B9F4324D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2313-AAA9-44F7-AD95-78C63F51CB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6C98-8A06-44B1-898B-D3A8079ABA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5928-AABA-43B9-8CC6-B04514C7E3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235-6A8E-406D-A88D-14ABC05335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99A6-4482-4C9F-84BC-C64BEF2177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26DA-E513-4F7D-90F1-5A5F16A5F0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CA56-957B-4B82-AB26-0B718E4B91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FCD-06B5-45B5-84C5-1938513F62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56B-6D56-4081-9B78-ABF8A4F6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F63-B667-45B4-9C03-8C7220DB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2FF-E928-469B-A85E-53CE78BF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709-2ED0-4555-8AF1-21F80606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A054-E631-47C6-80C1-7B1219E7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F85F-5E64-453E-B6D3-02D716FD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0769-B5DF-4D8E-A8F0-1B76C1D6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EAF2-10F4-4EB3-9292-C442149A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8238-10B5-483A-9565-8AF69002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79B0-00F5-475C-B2B9-43B4A7C6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4255-F909-4750-9FB3-6841AA3E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96B-B0A3-46EF-BC0B-BE7CA8DC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C735-BAB5-4D01-A346-CD527108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2BF1-1D1A-4DC0-9147-3ACFAC2B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6FE6-5888-4C18-BBE9-D1CE3401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C589-7F9A-48F1-ACA9-4F4EACD0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E408-A2B2-4DC7-873E-32DD0F5E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91A-710E-41E4-A185-DED1CFC6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644-1F9F-41C6-8FC0-DD525C5C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E6B-D9A1-4BDC-99AE-332497A0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7AF-35C1-400D-90CA-83B6D33A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B2E-D45C-4DE7-A2FC-EF02027B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A04-A5CF-42CD-9E71-7264544A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F62-2C6A-454E-86E8-1C4457DA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51D1-715B-4C74-87C4-AD4527633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412A-68A9-4FC2-932C-00F7B1C6A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z, viens! – Level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itre 1 – Deuxième Ét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mon voy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8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7" descr="14583"/>
          <p:cNvPicPr/>
          <p:nvPr/>
        </p:nvPicPr>
        <p:blipFill>
          <a:blip r:embed="rId1"/>
          <a:stretch/>
        </p:blipFill>
        <p:spPr>
          <a:xfrm>
            <a:off x="2133720" y="100476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9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7" descr="63187"/>
          <p:cNvPicPr/>
          <p:nvPr/>
        </p:nvPicPr>
        <p:blipFill>
          <a:blip r:embed="rId1"/>
          <a:stretch/>
        </p:blipFill>
        <p:spPr>
          <a:xfrm>
            <a:off x="2286000" y="100476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7" descr="24691"/>
          <p:cNvPicPr/>
          <p:nvPr/>
        </p:nvPicPr>
        <p:blipFill>
          <a:blip r:embed="rId1"/>
          <a:stretch/>
        </p:blipFill>
        <p:spPr>
          <a:xfrm>
            <a:off x="2209680" y="100476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7" descr="53371"/>
          <p:cNvPicPr/>
          <p:nvPr/>
        </p:nvPicPr>
        <p:blipFill>
          <a:blip r:embed="rId1"/>
          <a:stretch/>
        </p:blipFill>
        <p:spPr>
          <a:xfrm>
            <a:off x="2286000" y="928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Direction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hoisissez une destination pour des vacances. Puis, regardez la présentation et dites que vous choisissez les vêtements suivants et donnez leur coule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Je choisis une écharpe rouge et une écharpe noi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5" descr="59035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7" descr="07007"/>
          <p:cNvPicPr/>
          <p:nvPr/>
        </p:nvPicPr>
        <p:blipFill>
          <a:blip r:embed="rId1"/>
          <a:stretch/>
        </p:blipFill>
        <p:spPr>
          <a:xfrm>
            <a:off x="2362320" y="11430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7" descr="02210"/>
          <p:cNvPicPr/>
          <p:nvPr/>
        </p:nvPicPr>
        <p:blipFill>
          <a:blip r:embed="rId1"/>
          <a:stretch/>
        </p:blipFill>
        <p:spPr>
          <a:xfrm>
            <a:off x="2362320" y="100476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4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03118"/>
          <p:cNvPicPr/>
          <p:nvPr/>
        </p:nvPicPr>
        <p:blipFill>
          <a:blip r:embed="rId1"/>
          <a:stretch/>
        </p:blipFill>
        <p:spPr>
          <a:xfrm>
            <a:off x="2057400" y="9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5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7" descr="25447"/>
          <p:cNvPicPr/>
          <p:nvPr/>
        </p:nvPicPr>
        <p:blipFill>
          <a:blip r:embed="rId1"/>
          <a:stretch/>
        </p:blipFill>
        <p:spPr>
          <a:xfrm>
            <a:off x="1523880" y="208584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04235"/>
          <p:cNvPicPr/>
          <p:nvPr/>
        </p:nvPicPr>
        <p:blipFill>
          <a:blip r:embed="rId2"/>
          <a:stretch/>
        </p:blipFill>
        <p:spPr>
          <a:xfrm>
            <a:off x="4800600" y="2057400"/>
            <a:ext cx="29098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8" descr="59159"/>
          <p:cNvPicPr/>
          <p:nvPr/>
        </p:nvPicPr>
        <p:blipFill>
          <a:blip r:embed="rId1"/>
          <a:stretch/>
        </p:blipFill>
        <p:spPr>
          <a:xfrm>
            <a:off x="2133720" y="928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7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7" descr="54627"/>
          <p:cNvPicPr/>
          <p:nvPr/>
        </p:nvPicPr>
        <p:blipFill>
          <a:blip r:embed="rId1"/>
          <a:stretch/>
        </p:blipFill>
        <p:spPr>
          <a:xfrm>
            <a:off x="2209680" y="10047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1-09T22:25:11Z</dcterms:modified>
  <cp:revision>77</cp:revision>
  <dc:subject/>
  <dc:title>Allez, viens! – Level 2</dc:title>
</cp:coreProperties>
</file>